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EEB1-D4BE-408D-B1E8-FAB53535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8C5-826A-4ABB-B72B-217BF9F6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A29-7DF9-448C-B427-068245D1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939-4C78-45B5-969E-E0219C90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990F-1C96-4DC7-A604-06C9AC7F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4C97-197F-4052-A8C4-7DDDD621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D57D-ABC6-44CF-9FCA-39E2920D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5A3F-B4CB-4258-8382-0F860EF1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59AE-A6CD-43C0-96CE-09B28D20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A25E-44C0-44E4-8CCC-56A5E7C6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264F-5931-42E1-AE19-8D2A384D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EB6-F7AA-4099-BAB0-60F7502C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7580-CF3F-407F-80A1-C87668AD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C85D-3C7F-4254-9F31-263C5DEC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8484-C698-499B-83A4-FE9139C7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D7F5-A784-4BBE-A6FB-2736A6DE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E15D-9301-4426-9F06-8EB4FC4E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3C3-BD9A-40CA-A5B2-4CBD4067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714-FF23-4300-AC77-7935A2AD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2091C-2730-4FBE-81BC-0FCA96C9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F13-ABE0-4AB2-BE7D-AB366681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99FE-CA8D-4DCA-886E-E1E4D8CF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0451-650A-4903-B551-6483F535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2987F-F5D6-4EEC-8914-5A40D307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C12B-497C-457D-B75D-D9C24CA2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56F5D-6083-4184-ADD9-AB621E0C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4D6B-06A0-40BB-B2AF-949E8585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6398E-FC7A-421F-831B-3B32A12D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72D5C-A6EC-4838-AC7D-60A7344E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8D5F-5650-43BB-9CE3-5C49860E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00E55-8F11-4970-A234-56B873B4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427-DFDE-4FCA-9FCC-B0024D52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693E-3A74-48CC-813B-BC90261B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825-99CC-4C18-B6F1-71F2D159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766-9E3B-4883-AEAE-DC18E1B1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4E3-A291-435F-8511-236D7552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E722-74FC-4974-BF4C-71849964DACB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D55B-A2BC-4272-9777-5903B3AC3E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logo.jpg"/>
          <p:cNvPicPr/>
          <p:nvPr/>
        </p:nvPicPr>
        <p:blipFill>
          <a:blip r:embed="rId3"/>
          <a:stretch/>
        </p:blipFill>
        <p:spPr>
          <a:xfrm>
            <a:off x="71280" y="55440"/>
            <a:ext cx="719280" cy="5335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" descr="line.emf"/>
          <p:cNvPicPr/>
          <p:nvPr/>
        </p:nvPicPr>
        <p:blipFill>
          <a:blip r:embed="rId4"/>
          <a:stretch/>
        </p:blipFill>
        <p:spPr>
          <a:xfrm>
            <a:off x="857160" y="534960"/>
            <a:ext cx="6007320" cy="205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8" descr="line.emf"/>
          <p:cNvPicPr/>
          <p:nvPr/>
        </p:nvPicPr>
        <p:blipFill>
          <a:blip r:embed="rId5"/>
          <a:stretch/>
        </p:blipFill>
        <p:spPr>
          <a:xfrm>
            <a:off x="857160" y="569880"/>
            <a:ext cx="6007320" cy="190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9" descr="字体.png"/>
          <p:cNvPicPr/>
          <p:nvPr/>
        </p:nvPicPr>
        <p:blipFill>
          <a:blip r:embed="rId6"/>
          <a:stretch/>
        </p:blipFill>
        <p:spPr>
          <a:xfrm>
            <a:off x="857160" y="117360"/>
            <a:ext cx="1683000" cy="3654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0" descr="line2.emf"/>
          <p:cNvPicPr/>
          <p:nvPr/>
        </p:nvPicPr>
        <p:blipFill>
          <a:blip r:embed="rId7"/>
          <a:stretch/>
        </p:blipFill>
        <p:spPr>
          <a:xfrm>
            <a:off x="2706840" y="4695840"/>
            <a:ext cx="6008400" cy="190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1" descr="line2.emf"/>
          <p:cNvPicPr/>
          <p:nvPr/>
        </p:nvPicPr>
        <p:blipFill>
          <a:blip r:embed="rId8"/>
          <a:stretch/>
        </p:blipFill>
        <p:spPr>
          <a:xfrm>
            <a:off x="2706840" y="4732200"/>
            <a:ext cx="6008400" cy="2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215040" y="4766760"/>
            <a:ext cx="2471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7"/>
          <p:cNvSpPr/>
          <p:nvPr/>
        </p:nvSpPr>
        <p:spPr>
          <a:xfrm>
            <a:off x="468360" y="132408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答辩论文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3950640" y="2066760"/>
            <a:ext cx="11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556000" y="2859120"/>
            <a:ext cx="36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姓    名： 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学    号：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学    院：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专业班级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指导教师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5722920" y="720720"/>
            <a:ext cx="342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8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届毕业设计（论文）开题答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圆角矩形 1" descr=""/>
          <p:cNvPicPr/>
          <p:nvPr/>
        </p:nvPicPr>
        <p:blipFill>
          <a:blip r:embed="rId1"/>
          <a:stretch/>
        </p:blipFill>
        <p:spPr>
          <a:xfrm>
            <a:off x="1712880" y="1146240"/>
            <a:ext cx="530280" cy="579240"/>
          </a:xfrm>
          <a:prstGeom prst="rect">
            <a:avLst/>
          </a:prstGeom>
          <a:ln w="0">
            <a:noFill/>
          </a:ln>
        </p:spPr>
      </p:pic>
      <p:sp>
        <p:nvSpPr>
          <p:cNvPr id="210" name="圆角矩形 2"/>
          <p:cNvSpPr/>
          <p:nvPr/>
        </p:nvSpPr>
        <p:spPr>
          <a:xfrm>
            <a:off x="2300400" y="1177920"/>
            <a:ext cx="4575240" cy="43164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w="3240">
            <a:solidFill>
              <a:srgbClr val="bfbfbf">
                <a:alpha val="35000"/>
              </a:srgbClr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圆角矩形 3" descr=""/>
          <p:cNvPicPr/>
          <p:nvPr/>
        </p:nvPicPr>
        <p:blipFill>
          <a:blip r:embed="rId2"/>
          <a:stretch/>
        </p:blipFill>
        <p:spPr>
          <a:xfrm>
            <a:off x="1712880" y="1725480"/>
            <a:ext cx="530280" cy="573120"/>
          </a:xfrm>
          <a:prstGeom prst="rect">
            <a:avLst/>
          </a:prstGeom>
          <a:ln w="0">
            <a:noFill/>
          </a:ln>
        </p:spPr>
      </p:pic>
      <p:sp>
        <p:nvSpPr>
          <p:cNvPr id="212" name="圆角矩形 4"/>
          <p:cNvSpPr/>
          <p:nvPr/>
        </p:nvSpPr>
        <p:spPr>
          <a:xfrm>
            <a:off x="2300400" y="1754280"/>
            <a:ext cx="4575240" cy="43164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w="3240">
            <a:solidFill>
              <a:srgbClr val="bfbfbf">
                <a:alpha val="35000"/>
              </a:srgbClr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圆角矩形 5" descr=""/>
          <p:cNvPicPr/>
          <p:nvPr/>
        </p:nvPicPr>
        <p:blipFill>
          <a:blip r:embed="rId3"/>
          <a:stretch/>
        </p:blipFill>
        <p:spPr>
          <a:xfrm>
            <a:off x="1712880" y="2298600"/>
            <a:ext cx="530280" cy="577800"/>
          </a:xfrm>
          <a:prstGeom prst="rect">
            <a:avLst/>
          </a:prstGeom>
          <a:ln w="0">
            <a:noFill/>
          </a:ln>
        </p:spPr>
      </p:pic>
      <p:sp>
        <p:nvSpPr>
          <p:cNvPr id="214" name="圆角矩形 6"/>
          <p:cNvSpPr/>
          <p:nvPr/>
        </p:nvSpPr>
        <p:spPr>
          <a:xfrm>
            <a:off x="2300400" y="2330280"/>
            <a:ext cx="4575240" cy="43200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fffff"/>
              </a:gs>
              <a:gs pos="100000">
                <a:srgbClr val="f7f7f7"/>
              </a:gs>
            </a:gsLst>
            <a:lin ang="5400000"/>
          </a:gradFill>
          <a:ln w="3240">
            <a:solidFill>
              <a:srgbClr val="bfbfbf">
                <a:alpha val="35000"/>
              </a:srgbClr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3026160" y="1209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的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3026160" y="1785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发展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3"/>
          <p:cNvSpPr/>
          <p:nvPr/>
        </p:nvSpPr>
        <p:spPr>
          <a:xfrm>
            <a:off x="919800" y="6699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 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6156360" y="47520"/>
            <a:ext cx="295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8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届毕业设计（论文）开题答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2"/>
          <p:cNvSpPr/>
          <p:nvPr/>
        </p:nvSpPr>
        <p:spPr>
          <a:xfrm>
            <a:off x="6156360" y="47520"/>
            <a:ext cx="295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8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届毕业设计（论文）开题答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6"/>
          <p:cNvSpPr/>
          <p:nvPr/>
        </p:nvSpPr>
        <p:spPr>
          <a:xfrm>
            <a:off x="2376360" y="1170000"/>
            <a:ext cx="43912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6156360" y="47520"/>
            <a:ext cx="295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8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届毕业设计（论文）开题答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0:05:48Z</dcterms:created>
  <dc:creator>baihao</dc:creator>
  <dc:description/>
  <dc:language>en-US</dc:language>
  <cp:lastModifiedBy>ylmf</cp:lastModifiedBy>
  <dcterms:modified xsi:type="dcterms:W3CDTF">2018-04-16T00:25:05Z</dcterms:modified>
  <cp:revision>767</cp:revision>
  <dc:subject/>
  <dc:title>PowerPoint 演示文稿</dc:title>
</cp:coreProperties>
</file>