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E5A-E8A3-4118-B871-86995185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9F9-F58E-4644-9044-498D095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662-3DA2-42C7-8F11-4B6F854E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D73-05FF-4D97-86C0-12D31B94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EE7-EFEE-47E8-853E-9C1BBF12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CCC-0B5F-410A-A121-02E0872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AEC2-6930-4966-8E6F-3135416A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744-CA71-4699-B78D-5C7C01A8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4E0A-ACC4-4735-83F5-9645C0F3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2D1-42BB-43B8-9E00-EAF5FB3A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8E99-0AB1-4292-8960-0B6AC9B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3A26-737B-4328-BC1D-439D1FAB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10B-9D2D-4077-A076-CF20773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D024-A50D-4C9B-BC11-5D2F843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4D18-18AC-4A9E-95FB-09E739A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D3B6-0085-401D-9CA1-54677C9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5D5-439A-489C-9C10-CFC55CE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BEA0-85C4-4919-9D23-31486062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126C-DCCA-4341-A5FD-B461D1B6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C8D-4772-4BB9-AAE5-080107E7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09D-CDAF-492F-BCB5-28DD71B8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76B-FE32-4653-80CE-907BA246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34B-7BB2-4B05-8517-D77FE57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BF3-809C-410E-AC25-BF8F526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81D-E43F-46B2-AFBD-3B69C8B4466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3D5A-2FA5-463A-9461-D86FE8ED43D2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7"/>
          <p:cNvSpPr/>
          <p:nvPr/>
        </p:nvSpPr>
        <p:spPr>
          <a:xfrm>
            <a:off x="468360" y="132408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答辩论文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3950640" y="206676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56000" y="285912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姓    名：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    号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    院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专业班级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导教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5722920" y="720720"/>
            <a:ext cx="342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18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圆角矩形 1" descr=""/>
          <p:cNvPicPr/>
          <p:nvPr/>
        </p:nvPicPr>
        <p:blipFill>
          <a:blip r:embed="rId1"/>
          <a:stretch/>
        </p:blipFill>
        <p:spPr>
          <a:xfrm>
            <a:off x="1712880" y="1146240"/>
            <a:ext cx="530280" cy="579240"/>
          </a:xfrm>
          <a:prstGeom prst="rect">
            <a:avLst/>
          </a:prstGeom>
          <a:ln w="0">
            <a:noFill/>
          </a:ln>
        </p:spPr>
      </p:pic>
      <p:sp>
        <p:nvSpPr>
          <p:cNvPr id="163" name="圆角矩形 2"/>
          <p:cNvSpPr/>
          <p:nvPr/>
        </p:nvSpPr>
        <p:spPr>
          <a:xfrm>
            <a:off x="2300400" y="1177920"/>
            <a:ext cx="457524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5000"/>
              </a:srgbClr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圆角矩形 3" descr=""/>
          <p:cNvPicPr/>
          <p:nvPr/>
        </p:nvPicPr>
        <p:blipFill>
          <a:blip r:embed="rId2"/>
          <a:stretch/>
        </p:blipFill>
        <p:spPr>
          <a:xfrm>
            <a:off x="1712880" y="1725480"/>
            <a:ext cx="530280" cy="573120"/>
          </a:xfrm>
          <a:prstGeom prst="rect">
            <a:avLst/>
          </a:prstGeom>
          <a:ln w="0">
            <a:noFill/>
          </a:ln>
        </p:spPr>
      </p:pic>
      <p:sp>
        <p:nvSpPr>
          <p:cNvPr id="165" name="圆角矩形 4"/>
          <p:cNvSpPr/>
          <p:nvPr/>
        </p:nvSpPr>
        <p:spPr>
          <a:xfrm>
            <a:off x="2300400" y="1754280"/>
            <a:ext cx="457524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5000"/>
              </a:srgbClr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圆角矩形 5" descr=""/>
          <p:cNvPicPr/>
          <p:nvPr/>
        </p:nvPicPr>
        <p:blipFill>
          <a:blip r:embed="rId3"/>
          <a:stretch/>
        </p:blipFill>
        <p:spPr>
          <a:xfrm>
            <a:off x="1712880" y="2298600"/>
            <a:ext cx="530280" cy="577800"/>
          </a:xfrm>
          <a:prstGeom prst="rect">
            <a:avLst/>
          </a:prstGeom>
          <a:ln w="0">
            <a:noFill/>
          </a:ln>
        </p:spPr>
      </p:pic>
      <p:sp>
        <p:nvSpPr>
          <p:cNvPr id="167" name="圆角矩形 6"/>
          <p:cNvSpPr/>
          <p:nvPr/>
        </p:nvSpPr>
        <p:spPr>
          <a:xfrm>
            <a:off x="2300400" y="2330280"/>
            <a:ext cx="457524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5000"/>
              </a:srgbClr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026160" y="120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302616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发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3"/>
          <p:cNvSpPr/>
          <p:nvPr/>
        </p:nvSpPr>
        <p:spPr>
          <a:xfrm>
            <a:off x="919800" y="669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 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6156360" y="47520"/>
            <a:ext cx="29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8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6156360" y="47520"/>
            <a:ext cx="29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8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6"/>
          <p:cNvSpPr/>
          <p:nvPr/>
        </p:nvSpPr>
        <p:spPr>
          <a:xfrm>
            <a:off x="2376360" y="1170000"/>
            <a:ext cx="43912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 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6156360" y="47520"/>
            <a:ext cx="29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8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0:05:48Z</dcterms:created>
  <dc:creator>baihao</dc:creator>
  <dc:description/>
  <dc:language>en-US</dc:language>
  <cp:lastModifiedBy>ylmf</cp:lastModifiedBy>
  <dcterms:modified xsi:type="dcterms:W3CDTF">2018-04-16T00:26:58Z</dcterms:modified>
  <cp:revision>767</cp:revision>
  <dc:subject/>
  <dc:title>PowerPoint 演示文稿</dc:title>
</cp:coreProperties>
</file>