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5FE-2C44-435B-A950-3A714617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7C2-649E-49FB-9A13-9399A9D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2C8-4ADC-4EFC-96F1-D7BE057A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E72-6E2F-4DFA-B4BB-5B2BDA76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CE7-8F4D-4AC2-BA24-ECD9858C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936-51DD-432E-B75E-1D9A4052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D123-7109-4538-9991-60DE050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90F8-97FE-4035-8936-71C4248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B11-6813-4958-BD24-98383EA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BDF3-FC12-41F3-9AF5-B184501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D372-BEA0-4B35-AF53-237CB87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A3-47C1-46A4-8615-2CDE6834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EB3D-A6A9-4224-A174-D18E964E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C1EC-4EF1-4C45-91C2-0598B21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C379-2B75-49B0-B240-DB2CA11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C1A5-7A38-466B-841B-7F0797C3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EC2-DB68-4C46-823F-D1A8F005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1870-8913-4222-84BC-1786EBA1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F5DE-A1AA-4A8E-B464-7D235CB0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B3E9-29A4-46BB-8DB6-208E633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7BBC6-9001-4589-9904-5589864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9EEB-817B-4DDD-B7A8-449A3B9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40F-49A6-4720-B836-84D614BB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DF9C-19E7-4F45-A9DD-EF61A76F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C1A3-AFC7-48E4-930A-FF97E854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B3DC-870E-4C61-8EBF-E90E057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A9D5-78A7-448D-B041-F765BD6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62B9-82CC-4CE2-BD26-0CB304E7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B861-D44C-4705-9503-46E89362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63BE-17AF-44B2-B333-F41D5EA4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2185-A34F-4AC7-B9F5-B5C80A67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09C8-092C-41A8-96BE-417B4A0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BFAD-1834-4FF2-B140-06EB8A7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BFF-43D3-46FC-851E-E0BAC4C2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43F3-6746-4147-AF98-5A958D1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9466-7F91-4C20-9127-6DB5FD6B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F4EA8-7624-4914-8214-966A0C6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3D05-8D98-4234-BC5D-ACA2762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BC8C-EA20-417C-955C-0B56111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06CE-3EC5-4A0B-B491-125A82A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CC3E-E795-40A6-9B11-67F1AC8E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3231-1EB5-47E0-8DA1-14AC37A0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8092-144A-4700-9FA9-800EFECE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E03A-CB3C-40A6-827B-A7E7D88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9DD-163D-4646-88CB-8CE857D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BAB1-9F4F-44BB-B56F-0ADC8A42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9828-14BF-49B8-BD50-B149F92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C21B-2355-420B-9C62-2CDB68E3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0DDB-7388-4952-852E-9BC43EEE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EE18-A907-4C48-A7AC-B44A6FE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1C1C-9837-49D7-8A5F-72AEF0CC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DF62-273C-410C-ABB0-71864BC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A604-D140-42D6-9A75-EB56125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72FF-8B37-43B7-B125-917AA70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8E60-5336-4AB7-9ACC-6C230C7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6BB-EDB0-4FC7-A2DB-6AE907D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B718-F41E-487F-8D32-343ECB88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ACF-0885-4E44-8E4C-B66F476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533-A548-43FE-B2B0-9BAB09A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C6B-E2BF-41B2-80DA-74DDE84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DD3-230E-450C-B887-8C7BFB29220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7F33-D265-4A3E-86C7-3DBC3BFF4D7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0A33-F8BF-4CE1-9AD4-7F395C26831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8701-C92B-470E-B0B4-9285C9EA62E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E:\宣传\校名.png"/>
          <p:cNvPicPr/>
          <p:nvPr/>
        </p:nvPicPr>
        <p:blipFill>
          <a:blip r:embed="rId3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:\宣传\镐京学院校徽副本.png"/>
          <p:cNvPicPr/>
          <p:nvPr/>
        </p:nvPicPr>
        <p:blipFill>
          <a:blip r:embed="rId4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E:\宣传\校名.png"/>
          <p:cNvPicPr/>
          <p:nvPr/>
        </p:nvPicPr>
        <p:blipFill>
          <a:blip r:embed="rId5"/>
          <a:stretch/>
        </p:blipFill>
        <p:spPr>
          <a:xfrm>
            <a:off x="1106640" y="219240"/>
            <a:ext cx="3402000" cy="50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宣传\镐京学院校徽副本.png"/>
          <p:cNvPicPr/>
          <p:nvPr/>
        </p:nvPicPr>
        <p:blipFill>
          <a:blip r:embed="rId6"/>
          <a:stretch/>
        </p:blipFill>
        <p:spPr>
          <a:xfrm>
            <a:off x="396720" y="142920"/>
            <a:ext cx="66528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F78-056D-4E3D-B39A-EFFDDC6D578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52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202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年申报高级职称答辩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PPT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演示材料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4360" y="1844640"/>
            <a:ext cx="81784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此模版仅提供统一格式，内容请如实填写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格式要求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严禁删除空白幻灯片正文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某页内容较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自行复制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申报人姓名为文件名保存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完毕请删除本页说明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1599840"/>
            <a:ext cx="7777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获奖及社会服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2590920"/>
          <a:ext cx="8229600" cy="3504960"/>
        </p:xfrm>
        <a:graphic>
          <a:graphicData uri="http://schemas.openxmlformats.org/drawingml/2006/table">
            <a:tbl>
              <a:tblPr/>
              <a:tblGrid>
                <a:gridCol w="1035000"/>
                <a:gridCol w="3237120"/>
                <a:gridCol w="1222200"/>
                <a:gridCol w="1193760"/>
                <a:gridCol w="154152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称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几等奖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几人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颁奖单位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重要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914400" y="31240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66ff"/>
                </a:solidFill>
                <a:latin typeface="Arial"/>
                <a:ea typeface="幼圆"/>
              </a:rPr>
              <a:t>xxx</a:t>
            </a:r>
            <a:r>
              <a:rPr b="1" sz="6000" spc="-1" strike="noStrike">
                <a:solidFill>
                  <a:srgbClr val="ff66ff"/>
                </a:solidFill>
                <a:latin typeface="Arial"/>
                <a:ea typeface="幼圆"/>
              </a:rPr>
              <a:t>个人介绍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90720" y="1752480"/>
            <a:ext cx="7010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023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年申报高级职称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21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762120" y="2438280"/>
            <a:ext cx="71625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内容包括：工作经历、职务变动、教书育人情况等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201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教学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2120" y="2590560"/>
            <a:ext cx="718632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教学代表性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416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论文著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2286000"/>
          <a:ext cx="8367840" cy="3740040"/>
        </p:xfrm>
        <a:graphic>
          <a:graphicData uri="http://schemas.openxmlformats.org/drawingml/2006/table">
            <a:tbl>
              <a:tblPr/>
              <a:tblGrid>
                <a:gridCol w="735120"/>
                <a:gridCol w="3960720"/>
                <a:gridCol w="920880"/>
                <a:gridCol w="27511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题目或著作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时  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类型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如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 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E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CSSC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收录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论文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论著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088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科研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2209680"/>
          <a:ext cx="8839440" cy="3238560"/>
        </p:xfrm>
        <a:graphic>
          <a:graphicData uri="http://schemas.openxmlformats.org/drawingml/2006/table">
            <a:tbl>
              <a:tblPr/>
              <a:tblGrid>
                <a:gridCol w="1219320"/>
                <a:gridCol w="3124080"/>
                <a:gridCol w="762120"/>
                <a:gridCol w="1219320"/>
                <a:gridCol w="761760"/>
                <a:gridCol w="933480"/>
                <a:gridCol w="81936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起止时间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来源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费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承担角色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完成情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990720" y="1752480"/>
            <a:ext cx="70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入科研业绩扫描件（限三项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1:00:26Z</dcterms:created>
  <dc:creator>杨妮</dc:creator>
  <dc:description/>
  <dc:language>en-US</dc:language>
  <cp:lastModifiedBy>华 郑</cp:lastModifiedBy>
  <dcterms:modified xsi:type="dcterms:W3CDTF">2023-11-03T07:42:40Z</dcterms:modified>
  <cp:revision>211</cp:revision>
  <dc:subject/>
  <dc:title>高教系列职务评审演示材料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KSORubyTemplateID">
    <vt:lpwstr>2</vt:lpwstr>
  </property>
</Properties>
</file>