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676-FF65-4E2D-BE1D-0696D812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73E-0A12-4573-9DE5-9F93FB9E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A29-BC1B-4B2B-9D97-DCBB1519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B82-38CC-4266-BAF5-43982401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4E89-F9B3-4DC5-8088-0A19CB4A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893C-7CF4-44F5-B744-94F903B7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9A38-FCEE-478B-86C5-12C01A4C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8AA5-6FCA-4148-9B43-C327102B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42E0-7189-4791-9BF8-B60E275F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45FA-B96F-4C2C-8EF1-6D1FB1A0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1ED6-CB82-40A5-BD4F-2BE323C9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1D7-901F-4230-9296-1EE42F83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E7AA-66E9-40A5-AAF3-AC6E5A4B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5079-26CE-48EE-9FE9-6F5E4E71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464D-0DCC-4810-AD60-05A5765A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2752-BB0E-49DF-A54F-B0AAEAC7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8F68-5522-4FB4-97D4-9F55DDB8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F13A-D392-4896-9805-6E592771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5379-C1EE-484D-A9D7-E22B4679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747BD-73AE-4E34-A75E-19FD149B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8C779-A86D-424B-8CB1-0C4C3E09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FBE4-F618-4E5F-BB76-1E619323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619-EE77-47BD-934E-12BFCEE9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756A-EE5C-419C-8BCE-415B97CC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4B46-A83B-46D6-9B2F-D737476A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F14B-9987-4308-82A7-3C750144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5C32-8D1E-439F-86A1-524DC5FE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8E47-82C4-4A4E-B64C-7F2FC575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4E1A-4115-4A10-8525-A43BF336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0C22A-D8A9-40E8-A440-0B86F3E4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7410B-F0B9-474F-B789-B9921B32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C3CD-D323-4870-9E77-D3F10BAB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5E259-4524-43A8-B71E-6FA150AD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044-C831-4069-A90E-69C1DDE3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319F0-2936-4DC9-AD6D-882C3473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CE7C3-24E2-4D0C-8896-1EA489AD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CF046-3226-476C-9371-16011729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BD26-889E-47CD-949B-24FC138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222F9-2597-4F38-9DB0-820D009F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B8FB1-9A9A-4877-ADCC-B79E27F9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FA98C-5794-4DB6-841A-2155B085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7F9B-F6C0-45F0-B1CD-25C615A0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ACE52-D9BA-4F3F-9785-346E5A64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F464E-79B4-4A8E-9442-98C8C892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E87-4A78-4683-954E-ADBB0E4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A41B-10D2-4340-AB25-9CA034DC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66FC-F465-43AB-9043-8619A6D3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8B2A0-4E7A-472C-80F0-5C30E704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8E80-9BD0-477D-B001-BD6BA672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AA1E-0A39-41ED-B755-63A7E706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CF82E-6349-45E3-95BC-38A3D5B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87C7-6E99-4B5D-8CD0-591CDE9D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B5CB6-7966-4F68-8E1D-52A7F1CB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FC21-5765-4E90-9722-179D5CF3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EE2B6-DFEA-4D07-8608-FA9B12D2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AC0-6767-425A-B04D-F99E1901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B9203-DD71-4889-BC05-BC8007A1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EBA-BC5C-47C4-8D9F-77CEE8B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684-8463-4C88-8F5A-07488194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34E-936A-4B12-AAE3-F5587568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093D-A362-40B0-B986-AD1D481071D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E:\宣传\校名.png"/>
          <p:cNvPicPr/>
          <p:nvPr/>
        </p:nvPicPr>
        <p:blipFill>
          <a:blip r:embed="rId3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5" descr="E:\宣传\镐京学院校徽副本.png"/>
          <p:cNvPicPr/>
          <p:nvPr/>
        </p:nvPicPr>
        <p:blipFill>
          <a:blip r:embed="rId4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E:\宣传\校名.png"/>
          <p:cNvPicPr/>
          <p:nvPr/>
        </p:nvPicPr>
        <p:blipFill>
          <a:blip r:embed="rId3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E:\宣传\镐京学院校徽副本.png"/>
          <p:cNvPicPr/>
          <p:nvPr/>
        </p:nvPicPr>
        <p:blipFill>
          <a:blip r:embed="rId4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E:\宣传\校名.png"/>
          <p:cNvPicPr/>
          <p:nvPr/>
        </p:nvPicPr>
        <p:blipFill>
          <a:blip r:embed="rId5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:\宣传\镐京学院校徽副本.png"/>
          <p:cNvPicPr/>
          <p:nvPr/>
        </p:nvPicPr>
        <p:blipFill>
          <a:blip r:embed="rId6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B94E-693A-46B1-8791-74312227D48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E:\宣传\校名.png"/>
          <p:cNvPicPr/>
          <p:nvPr/>
        </p:nvPicPr>
        <p:blipFill>
          <a:blip r:embed="rId3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E:\宣传\镐京学院校徽副本.png"/>
          <p:cNvPicPr/>
          <p:nvPr/>
        </p:nvPicPr>
        <p:blipFill>
          <a:blip r:embed="rId4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E:\宣传\校名.png"/>
          <p:cNvPicPr/>
          <p:nvPr/>
        </p:nvPicPr>
        <p:blipFill>
          <a:blip r:embed="rId5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E:\宣传\镐京学院校徽副本.png"/>
          <p:cNvPicPr/>
          <p:nvPr/>
        </p:nvPicPr>
        <p:blipFill>
          <a:blip r:embed="rId6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D988-E203-4DF7-AA1E-BDD55113339E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E:\宣传\校名.png"/>
          <p:cNvPicPr/>
          <p:nvPr/>
        </p:nvPicPr>
        <p:blipFill>
          <a:blip r:embed="rId3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E:\宣传\镐京学院校徽副本.png"/>
          <p:cNvPicPr/>
          <p:nvPr/>
        </p:nvPicPr>
        <p:blipFill>
          <a:blip r:embed="rId4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E:\宣传\校名.png"/>
          <p:cNvPicPr/>
          <p:nvPr/>
        </p:nvPicPr>
        <p:blipFill>
          <a:blip r:embed="rId5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E:\宣传\镐京学院校徽副本.png"/>
          <p:cNvPicPr/>
          <p:nvPr/>
        </p:nvPicPr>
        <p:blipFill>
          <a:blip r:embed="rId6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919D-B51E-4FEB-9BEB-7BCC5C1F4E9C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E:\宣传\校名.png"/>
          <p:cNvPicPr/>
          <p:nvPr/>
        </p:nvPicPr>
        <p:blipFill>
          <a:blip r:embed="rId3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E:\宣传\镐京学院校徽副本.png"/>
          <p:cNvPicPr/>
          <p:nvPr/>
        </p:nvPicPr>
        <p:blipFill>
          <a:blip r:embed="rId4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E:\宣传\校名.png"/>
          <p:cNvPicPr/>
          <p:nvPr/>
        </p:nvPicPr>
        <p:blipFill>
          <a:blip r:embed="rId5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E:\宣传\镐京学院校徽副本.png"/>
          <p:cNvPicPr/>
          <p:nvPr/>
        </p:nvPicPr>
        <p:blipFill>
          <a:blip r:embed="rId6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A79D-A9AB-4ED6-8C39-697C3A3C504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52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2018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年申报高级职称答辩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PPT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演示材料说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84360" y="1844640"/>
            <a:ext cx="81784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此模版仅提供统一格式，内容请如实填写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格式要求：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严禁删除空白幻灯片正文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若某页内容较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自行复制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申报人姓名为文件名保存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写完毕请删除本页说明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人限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1599840"/>
            <a:ext cx="7777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获奖及社会服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80880" y="2590920"/>
          <a:ext cx="8229600" cy="3504960"/>
        </p:xfrm>
        <a:graphic>
          <a:graphicData uri="http://schemas.openxmlformats.org/drawingml/2006/table">
            <a:tbl>
              <a:tblPr/>
              <a:tblGrid>
                <a:gridCol w="1035000"/>
                <a:gridCol w="3237120"/>
                <a:gridCol w="1222200"/>
                <a:gridCol w="1193760"/>
                <a:gridCol w="154152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  称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几等奖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几人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颁奖单位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重要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914400" y="312408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ff66ff"/>
                </a:solidFill>
                <a:latin typeface="Arial"/>
                <a:ea typeface="幼圆"/>
              </a:rPr>
              <a:t>xxx</a:t>
            </a:r>
            <a:r>
              <a:rPr b="1" sz="6000" spc="-1" strike="noStrike">
                <a:solidFill>
                  <a:srgbClr val="ff66ff"/>
                </a:solidFill>
                <a:latin typeface="Arial"/>
                <a:ea typeface="幼圆"/>
              </a:rPr>
              <a:t>个人介绍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990720" y="1752480"/>
            <a:ext cx="70102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018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年申报高级职称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216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762120" y="2438280"/>
            <a:ext cx="71625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内容包括：工作经历、职务变动、教书育人情况等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201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教学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2120" y="2590560"/>
            <a:ext cx="718632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教学代表性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1557000"/>
            <a:ext cx="7416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论文著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80880" y="2286000"/>
          <a:ext cx="8367840" cy="3740040"/>
        </p:xfrm>
        <a:graphic>
          <a:graphicData uri="http://schemas.openxmlformats.org/drawingml/2006/table">
            <a:tbl>
              <a:tblPr/>
              <a:tblGrid>
                <a:gridCol w="735120"/>
                <a:gridCol w="3960720"/>
                <a:gridCol w="920880"/>
                <a:gridCol w="27511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题目或著作名称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时  间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类型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如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C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  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E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CSSC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论文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论著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088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科研成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2209680"/>
          <a:ext cx="8839440" cy="3238560"/>
        </p:xfrm>
        <a:graphic>
          <a:graphicData uri="http://schemas.openxmlformats.org/drawingml/2006/table">
            <a:tbl>
              <a:tblPr/>
              <a:tblGrid>
                <a:gridCol w="1219320"/>
                <a:gridCol w="3124080"/>
                <a:gridCol w="762120"/>
                <a:gridCol w="1219320"/>
                <a:gridCol w="761760"/>
                <a:gridCol w="933480"/>
                <a:gridCol w="81936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起止时间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名称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经费来源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经费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承担角色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完成情况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科研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11:00:26Z</dcterms:created>
  <dc:creator>杨妮</dc:creator>
  <dc:description/>
  <dc:language>en-US</dc:language>
  <cp:lastModifiedBy>Microsoft</cp:lastModifiedBy>
  <dcterms:modified xsi:type="dcterms:W3CDTF">2018-11-08T10:13:08Z</dcterms:modified>
  <cp:revision>205</cp:revision>
  <dc:subject/>
  <dc:title>高教系列职务评审演示材料说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  <property fmtid="{D5CDD505-2E9C-101B-9397-08002B2CF9AE}" pid="3" name="KSORubyTemplateID">
    <vt:lpwstr>2</vt:lpwstr>
  </property>
</Properties>
</file>