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C00-1F29-4A1F-8F2B-64809BF1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32D-0AC7-410E-B6FA-81E9CA89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90C-6803-4D7E-BD4A-C24ECCCB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454-5A6A-4564-A96F-C8B9003C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121-8CC6-4794-8A84-986DE7A9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079-EB01-43DE-9063-8A3A323C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C6B-4097-448E-95FD-4C8F9948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0ED-E9E7-49E8-B2F0-FBDF6CB7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465-75A5-46BB-BC2C-3D74D527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0E6-B7B8-4104-BA11-ECA8971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B6C-71C3-4F75-8742-9B1EB136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876-9DBB-443E-A2C5-92648727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455A-612B-4289-8414-CAA66EA585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528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2016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年申报高级职称答辩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PPT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演示材料说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684360" y="1844640"/>
            <a:ext cx="81784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此模版仅提供统一格式，内容请如实填写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格式要求：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严禁删除空白幻灯片正文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若某页内容较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自行复制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申报人姓名为文件名保存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写完毕请删除本页说明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人限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1599840"/>
            <a:ext cx="7777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获奖及社会服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2590920"/>
          <a:ext cx="8229600" cy="3504960"/>
        </p:xfrm>
        <a:graphic>
          <a:graphicData uri="http://schemas.openxmlformats.org/drawingml/2006/table">
            <a:tbl>
              <a:tblPr/>
              <a:tblGrid>
                <a:gridCol w="1035000"/>
                <a:gridCol w="3237120"/>
                <a:gridCol w="1222200"/>
                <a:gridCol w="1193760"/>
                <a:gridCol w="154152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  称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几等奖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几人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颁奖单位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重要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914400" y="312408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ff"/>
                </a:solidFill>
                <a:latin typeface="Arial"/>
                <a:ea typeface="幼圆"/>
              </a:rPr>
              <a:t>xxx</a:t>
            </a: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幼圆"/>
              </a:rPr>
              <a:t>个人介绍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990720" y="1752480"/>
            <a:ext cx="70102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016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年申报高级职称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21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762120" y="2438280"/>
            <a:ext cx="71625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内容包括：工作经历、职务变动、教书育人情况等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限时一分钟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20163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教学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18632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  <a:ea typeface="黑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教学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1557000"/>
            <a:ext cx="741672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论文著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2286000"/>
          <a:ext cx="8367840" cy="3740040"/>
        </p:xfrm>
        <a:graphic>
          <a:graphicData uri="http://schemas.openxmlformats.org/drawingml/2006/table">
            <a:tbl>
              <a:tblPr/>
              <a:tblGrid>
                <a:gridCol w="735120"/>
                <a:gridCol w="3960720"/>
                <a:gridCol w="920880"/>
                <a:gridCol w="27511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题目或著作名称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时  间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类型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如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C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  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E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CSSC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论文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论著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088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科研成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2209680"/>
          <a:ext cx="8839440" cy="3214800"/>
        </p:xfrm>
        <a:graphic>
          <a:graphicData uri="http://schemas.openxmlformats.org/drawingml/2006/table">
            <a:tbl>
              <a:tblPr/>
              <a:tblGrid>
                <a:gridCol w="1219320"/>
                <a:gridCol w="3124080"/>
                <a:gridCol w="762120"/>
                <a:gridCol w="1219320"/>
                <a:gridCol w="761760"/>
                <a:gridCol w="990720"/>
                <a:gridCol w="762120"/>
              </a:tblGrid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起止时间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名称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费来源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费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几人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果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科研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11:00:26Z</dcterms:created>
  <dc:creator>杨妮</dc:creator>
  <dc:description/>
  <dc:language>en-US</dc:language>
  <cp:lastModifiedBy>FtpDown</cp:lastModifiedBy>
  <dcterms:modified xsi:type="dcterms:W3CDTF">2016-10-27T09:03:29Z</dcterms:modified>
  <cp:revision>196</cp:revision>
  <dc:subject/>
  <dc:title>高教系列职务评审演示材料说明</dc:title>
</cp:coreProperties>
</file>